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45.png" ContentType="image/png"/>
  <Override PartName="/ppt/media/image44.jpeg" ContentType="image/jpeg"/>
  <Override PartName="/ppt/media/image31.jpeg" ContentType="image/jpeg"/>
  <Override PartName="/ppt/media/image41.png" ContentType="image/png"/>
  <Override PartName="/ppt/media/image39.png" ContentType="image/png"/>
  <Override PartName="/ppt/media/image42.png" ContentType="image/png"/>
  <Override PartName="/ppt/media/image37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30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48.png" ContentType="image/png"/>
  <Override PartName="/ppt/media/image9.jpeg" ContentType="image/jpeg"/>
  <Override PartName="/ppt/media/image8.png" ContentType="image/png"/>
  <Override PartName="/ppt/media/image18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5BC-D049-4B2B-B313-587563EA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2DC-F26B-40CE-801C-D6586D28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6AE-69D6-49AA-A1E0-36A7285C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C57-99E5-4F17-ACC1-36DA6C3F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DBCC-D130-4E78-ADD3-F1D405FE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7FEE-1915-4574-A53D-C35C2E3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F957-D4F8-4EED-9EAF-A43E5E3C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5D5-7A46-4652-BF7F-C92A2C84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E0D1-E764-4737-968F-2004BD9B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D7ED-3A0F-444D-9EE2-587A168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827E-5499-42E7-B24B-9DB40E3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E4F-B651-4563-9814-BE91EF4A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9ED6-B3B4-4AB4-ACC6-8DC5BE0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5E63-5114-48C2-825F-3E3CF61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5453-A3DF-4971-88D9-63AE776D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7F2-604D-46F6-AD92-07D48BD4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3B8F-C544-46E4-BBA7-95A6B1D9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4ECE-68C6-4DF6-9D03-B5B28EC3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4212-AD6F-4ADD-8A0A-654E9F61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5128-644E-490B-B2E9-BEE80942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85C5-EE31-4C56-B921-3B24D2BC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50FF-DDD3-41A0-AD5B-E17AF4E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CA3-AFF0-475E-9806-5C09200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66AC-1F10-425D-9DD1-6308C44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504D-FB13-4B08-8735-F65B73D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45AE-5FBD-4E65-96E5-733F9DB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19BE-14F0-48EA-AAF6-85F5CA2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452E-B426-46F7-8E4B-CDCB6C22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40A5-3488-4C1F-A9BA-F39F5B0E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8A9F-5EB8-462E-8A71-B3D1D2D2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5C7C-9D2A-4902-AF69-1F447FFB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B18B-7CA3-42BB-8BB5-ED1F4DD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186E-923D-4661-9E57-6DBE3ED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2B6-0492-498D-9CC9-6C015C2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1CAE-262A-4643-8368-E4517C62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1304-1426-4A69-81C0-EF46C10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AB54-237B-4864-B6F2-4BA50B5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EC20-A6FE-4E00-9563-54C8822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C786-AC6D-4ACF-B072-A1F0599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0BE2-FA95-4077-BC5F-059EF5C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1BDD-EB98-4E1E-B7D4-E8C82A3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0841-8709-4F7A-B9C4-9CC07725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0E46-B1A7-4BC5-B2F3-86CD8CF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FB07-B5D8-4A47-9972-BEAECBBF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963-1B69-4779-BD44-1BA8B5A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EE9FB-A3CD-40A6-BED7-D6747569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E69D-14AF-49D3-9BDB-C7916E4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3341-E8C7-4B27-B384-D04FE7D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8640-ABE7-4184-AD65-15AED26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65FE-6EDA-471D-8F6A-B58D9F0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6217-53D2-4779-AC76-A6B53CF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75F1-30D9-47DE-85AE-7C896B14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7FCE-9CD6-427B-AC4F-A5171A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39E0-7330-4B21-A680-8E6D9D2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1A76-82D4-4F42-A01E-AF781C9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907-4971-4279-A9D7-2710948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42B8-0656-4323-8028-BE2F81C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47F-D761-4F53-8ADF-196FFC1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687-E77D-4541-B64B-73F9651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0DA-7EDF-4308-8B86-8F0DE08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7F5-E44E-47DD-990D-FB5ED5A9F91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A17B-9504-455D-98E9-AA4977194E2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92E-F52F-4D6D-91FF-98323487E91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857-63A8-4E09-ACBD-BCE67B63393F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14E-0A59-44D8-B687-7C9CA6EA7EC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1f34"/>
                </a:solidFill>
                <a:latin typeface="Trebuchet MS"/>
              </a:rPr>
              <a:t>Для поделок можно использовать самые разные материалы (от вполне привычных до совершенно необычных): бумагу и пенопласт, бутылки и макароны, глину и бисер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762012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1640" y="1523520"/>
            <a:ext cx="3429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С помощью трафарета можно наносить рисунки на ткань, можно использовать готовые трафареты или сделать их самим. Цветы, животные различные узоры украсят ваши футболки, мягкие игрушки, сумочк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http://murmolka.com/img/l/leprastuff.ru/data/img/20120313/47f8e3b7508fa9b643092ffe8818e467.jpg"/>
          <p:cNvPicPr/>
          <p:nvPr/>
        </p:nvPicPr>
        <p:blipFill>
          <a:blip r:embed="rId2"/>
          <a:stretch/>
        </p:blipFill>
        <p:spPr>
          <a:xfrm>
            <a:off x="228600" y="2057400"/>
            <a:ext cx="4267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2.imgbb.ru/img7/0/6/3/063cf723c86c13e4402045a1e7af5ca1_h.jpg"/>
          <p:cNvPicPr/>
          <p:nvPr/>
        </p:nvPicPr>
        <p:blipFill>
          <a:blip r:embed="rId2"/>
          <a:stretch/>
        </p:blipFill>
        <p:spPr>
          <a:xfrm>
            <a:off x="1371600" y="12952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419360" y="1752480"/>
            <a:ext cx="327636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Название «керамика» произошло от греческого «глина»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2" descr="http://www.basik.ru/images/solomatin/27.jpg"/>
          <p:cNvPicPr/>
          <p:nvPr/>
        </p:nvPicPr>
        <p:blipFill>
          <a:blip r:embed="rId2"/>
          <a:stretch/>
        </p:blipFill>
        <p:spPr>
          <a:xfrm>
            <a:off x="228600" y="1752480"/>
            <a:ext cx="42116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69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419360" y="1066320"/>
            <a:ext cx="3276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Ещё со времён античности, человек работал с глиной, лепил из неё статуэтки и разные полезные в быту вещи: вазы, тарелки, кувшины и другое. С течением времени, изделия принимали всё более причудливые форм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&amp;Kcy;&amp;acy;&amp;rcy;&amp;tcy;&amp;icy;&amp;ncy;&amp;acy; &amp;acy;&amp;kcy;&amp;rcy;&amp;icy;&amp;lcy; &amp;kcy;&amp;iecy;&amp;rcy;&amp;acy;&amp;mcy;&amp;icy;&amp;kcy;&amp;acy; &amp;Kcy;&amp;Acy;&amp;ZHcy;&amp;Dcy;&amp;Ocy;&amp;Mcy;&amp;Ucy; &amp;Scy;&amp;Vcy;&amp;Ocy;&amp;IOcy;! 25&amp;khcy;22"/>
          <p:cNvPicPr/>
          <p:nvPr/>
        </p:nvPicPr>
        <p:blipFill>
          <a:blip r:embed="rId2"/>
          <a:stretch/>
        </p:blipFill>
        <p:spPr>
          <a:xfrm>
            <a:off x="304920" y="1752480"/>
            <a:ext cx="3824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346640" y="324000"/>
            <a:ext cx="3352680" cy="669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28600" y="4495680"/>
            <a:ext cx="7391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Поп-ап – (от английского слова </a:t>
            </a:r>
            <a:r>
              <a:rPr b="0" lang="en-US" sz="2600" spc="-1" strike="noStrike">
                <a:solidFill>
                  <a:srgbClr val="773313"/>
                </a:solidFill>
                <a:latin typeface="Trebuchet MS"/>
              </a:rPr>
              <a:t>pop-up – </a:t>
            </a: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«выпрыгнуть наружу») использовался в объемных детских книжках-понорамках, начиная со второй половины </a:t>
            </a:r>
            <a:r>
              <a:rPr b="0" lang="en-US" sz="2600" spc="-1" strike="noStrike">
                <a:solidFill>
                  <a:srgbClr val="773313"/>
                </a:solidFill>
                <a:latin typeface="Trebuchet MS"/>
              </a:rPr>
              <a:t>XX</a:t>
            </a: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 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2" descr="http://stranamasterov.ru/files/imagecache/orig_with_logo/i1007/IMG_0096.JPG"/>
          <p:cNvPicPr/>
          <p:nvPr/>
        </p:nvPicPr>
        <p:blipFill>
          <a:blip r:embed="rId2"/>
          <a:stretch/>
        </p:blipFill>
        <p:spPr>
          <a:xfrm>
            <a:off x="0" y="5335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90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80880" y="5105520"/>
            <a:ext cx="73152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Панорамные элементы встречаются ещё раньше, в дамских альбомах </a:t>
            </a:r>
            <a:r>
              <a:rPr b="0" lang="en-US" sz="2600" spc="-1" strike="noStrike">
                <a:solidFill>
                  <a:srgbClr val="773313"/>
                </a:solidFill>
                <a:latin typeface="Trebuchet MS"/>
              </a:rPr>
              <a:t>XIII </a:t>
            </a: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4" descr="http://hand-made-granary.ru/_ph/83/182838742.jpg"/>
          <p:cNvPicPr/>
          <p:nvPr/>
        </p:nvPicPr>
        <p:blipFill>
          <a:blip r:embed="rId2"/>
          <a:stretch/>
        </p:blipFill>
        <p:spPr>
          <a:xfrm>
            <a:off x="990720" y="1219320"/>
            <a:ext cx="59529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222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3962520" y="1295280"/>
            <a:ext cx="396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Arial"/>
              </a:rPr>
              <a:t>Листочки с переводными картинками уже давно стали полезными помощниками архитекторов и художников. Сейчас эта техника очень распространена, и вы можете сделать их сами или купить в магазине канцелярских товаров, игрушек или живопи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http://go3.imgsmail.ru/imgpreview?key=http%3A//savok.name/uploads/perevodnye_kartinki/1.jpg&amp;mb=imgdb_preview_1654"/>
          <p:cNvPicPr/>
          <p:nvPr/>
        </p:nvPicPr>
        <p:blipFill>
          <a:blip r:embed="rId2"/>
          <a:stretch/>
        </p:blipFill>
        <p:spPr>
          <a:xfrm>
            <a:off x="380880" y="1371600"/>
            <a:ext cx="33912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22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733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Переводная картинка сделана их полужёсткой гладкой бумаги, на которую наклеено изображение. Существуют разные виды переводных картинок с самыми разнообразными узорами и цветами. Их очень легко перевести на любую поверх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2" descr="http://www.karpolan.com/photos/decals/vanna-neptun.jpg"/>
          <p:cNvPicPr/>
          <p:nvPr/>
        </p:nvPicPr>
        <p:blipFill>
          <a:blip r:embed="rId2"/>
          <a:stretch/>
        </p:blipFill>
        <p:spPr>
          <a:xfrm>
            <a:off x="228600" y="1447920"/>
            <a:ext cx="34513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74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647960" y="1523520"/>
            <a:ext cx="3276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Солёное тесто – это техника, которая происходит из Германии; с помощью неё можно делать куколок, украшения, карти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2" descr="&amp;Scy;&amp;ocy;&amp;lcy;&amp;iecy;&amp;ncy;&amp;ocy;&amp;iecy; &amp;tcy;&amp;iecy;&amp;scy;&amp;tcy;&amp;ocy; &amp;dcy;&amp;lcy;&amp;yacy; &amp;lcy;&amp;iecy;&amp;pcy;&amp;kcy;&amp;icy;"/>
          <p:cNvPicPr/>
          <p:nvPr/>
        </p:nvPicPr>
        <p:blipFill>
          <a:blip r:embed="rId2"/>
          <a:stretch/>
        </p:blipFill>
        <p:spPr>
          <a:xfrm>
            <a:off x="304920" y="19051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22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3ladies.ru/wp-content/uploads/2012/02/12-salt-dough.jpg"/>
          <p:cNvPicPr/>
          <p:nvPr/>
        </p:nvPicPr>
        <p:blipFill>
          <a:blip r:embed="rId2"/>
          <a:stretch/>
        </p:blipFill>
        <p:spPr>
          <a:xfrm>
            <a:off x="457200" y="1295280"/>
            <a:ext cx="70102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5257800" y="1609200"/>
            <a:ext cx="2666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rebuchet MS"/>
              </a:rPr>
              <a:t>По другому её можно назвать «мозаика из ткани». Её изобрели бедняки, чтобы украшать свою одежд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i032.radikal.ru/0802/00/79a270a517f1.jpg"/>
          <p:cNvPicPr/>
          <p:nvPr/>
        </p:nvPicPr>
        <p:blipFill>
          <a:blip r:embed="rId2"/>
          <a:stretch/>
        </p:blipFill>
        <p:spPr>
          <a:xfrm>
            <a:off x="380880" y="1752480"/>
            <a:ext cx="458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953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91120" y="1609200"/>
            <a:ext cx="35049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Гербарий – это коллекция засушенных растений. Первые гербарии появились в Италии в </a:t>
            </a:r>
            <a:r>
              <a:rPr b="0" lang="en-US" sz="2400" spc="-1" strike="noStrike">
                <a:solidFill>
                  <a:srgbClr val="773313"/>
                </a:solidFill>
                <a:latin typeface="Trebuchet MS"/>
              </a:rPr>
              <a:t>XVI </a:t>
            </a: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веке. Из засушенных цветов и листьев, можно создавать замечательные картин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2" descr="http://herbalogya.ru/Herbary/5/243.jpg"/>
          <p:cNvPicPr/>
          <p:nvPr/>
        </p:nvPicPr>
        <p:blipFill>
          <a:blip r:embed="rId2"/>
          <a:stretch/>
        </p:blipFill>
        <p:spPr>
          <a:xfrm>
            <a:off x="531720" y="1447920"/>
            <a:ext cx="3251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191120" y="1609200"/>
            <a:ext cx="35049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3313"/>
                </a:solidFill>
                <a:latin typeface="Trebuchet MS"/>
              </a:rPr>
              <a:t>Можно собрать цветы и листья. Положить их между страницами толстой книги или журнала, а сверху положить какой-нибудь груз. Цветы сушат в течении десяти дн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http://img0.liveinternet.ru/images/attach/c/2/65/590/65590692_g3.jpg"/>
          <p:cNvPicPr/>
          <p:nvPr/>
        </p:nvPicPr>
        <p:blipFill>
          <a:blip r:embed="rId2"/>
          <a:stretch/>
        </p:blipFill>
        <p:spPr>
          <a:xfrm>
            <a:off x="380880" y="2057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419360" y="1371600"/>
            <a:ext cx="3276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игами – это древнее искусство складывания фигурок из бумаги. Оригами своими корнями уходит в древний Китай, где и была изобретена бума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http://all-origami.ru/wp-content/plugins/kama-thumbnail/thumb/cbb9ed835_200x150.png"/>
          <p:cNvPicPr/>
          <p:nvPr/>
        </p:nvPicPr>
        <p:blipFill>
          <a:blip r:embed="rId2"/>
          <a:stretch/>
        </p:blipFill>
        <p:spPr>
          <a:xfrm>
            <a:off x="533520" y="1295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&amp;Ocy;&amp;rcy;&amp;icy;&amp;gcy;&amp;acy;&amp;mcy;&amp;icy;. &amp;Pcy;&amp;ocy;&amp;dcy;&amp;iecy;&amp;lcy;&amp;kcy;&amp;icy; &amp;icy;&amp;zcy; &amp;bcy;&amp;ucy;&amp;mcy;&amp;acy;&amp;gcy;&amp;icy; &amp;scy;&amp;vcy;&amp;ocy;&amp;icy;&amp;mcy;&amp;icy; &amp;rcy;&amp;ucy;&amp;kcy;&amp;acy;&amp;mcy;&amp;icy;."/>
          <p:cNvPicPr/>
          <p:nvPr/>
        </p:nvPicPr>
        <p:blipFill>
          <a:blip r:embed="rId3"/>
          <a:stretch/>
        </p:blipFill>
        <p:spPr>
          <a:xfrm>
            <a:off x="609480" y="3809880"/>
            <a:ext cx="28958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74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И так вы узнали несколько техник и приёмов с помощью которых вы сможете воплотить свои творческие идеи, изготовить оригинальные подарки, украсить комнату и сделать свои наряды яркими и модными. В этом вам помогут фантазия и немного терпени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Объект 3" descr=""/>
          <p:cNvPicPr/>
          <p:nvPr/>
        </p:nvPicPr>
        <p:blipFill>
          <a:blip r:embed="rId1"/>
          <a:stretch/>
        </p:blipFill>
        <p:spPr>
          <a:xfrm>
            <a:off x="4191120" y="2341440"/>
            <a:ext cx="3962160" cy="3962520"/>
          </a:xfrm>
          <a:prstGeom prst="rect">
            <a:avLst/>
          </a:prstGeom>
          <a:ln w="0">
            <a:noFill/>
          </a:ln>
        </p:spPr>
      </p:pic>
      <p:pic>
        <p:nvPicPr>
          <p:cNvPr id="284" name="Заголовок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974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447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А сейчас предлагаю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вам своими рук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сотворить чудо,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и из квадратного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листа бумаги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сделать вот таког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3313"/>
                </a:solidFill>
                <a:latin typeface="Trebuchet MS"/>
              </a:rPr>
              <a:t>ходячего гноми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upload.wikimedia.org/wikipedia/commons/e/e5/Hexagon_quilt_in_progress.jpg?uselang=ru"/>
          <p:cNvPicPr/>
          <p:nvPr/>
        </p:nvPicPr>
        <p:blipFill>
          <a:blip r:embed="rId2"/>
          <a:stretch/>
        </p:blipFill>
        <p:spPr>
          <a:xfrm>
            <a:off x="1981080" y="1295280"/>
            <a:ext cx="3915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0" y="1609200"/>
            <a:ext cx="3124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Используя технику коллажа можно взять, не только материалы, которые нужны для рисования, но и цветную бумагу, картон, вырезки из газет и журналов, а так же булавки, пуговицы, кусочки дерева, пробки и тому подоб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http://img-fotki.yandex.ru/get/4410/127349919.2/0_5b298_f4d0c1f2_M.jpg"/>
          <p:cNvPicPr/>
          <p:nvPr/>
        </p:nvPicPr>
        <p:blipFill>
          <a:blip r:embed="rId2"/>
          <a:stretch/>
        </p:blipFill>
        <p:spPr>
          <a:xfrm>
            <a:off x="457200" y="1828800"/>
            <a:ext cx="40734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22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876560" y="1609200"/>
            <a:ext cx="2819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http://infodengy.ru/wp-content/uploads/2011/10/110.jpg"/>
          <p:cNvPicPr/>
          <p:nvPr/>
        </p:nvPicPr>
        <p:blipFill>
          <a:blip r:embed="rId2"/>
          <a:stretch/>
        </p:blipFill>
        <p:spPr>
          <a:xfrm>
            <a:off x="1066680" y="1371600"/>
            <a:ext cx="57340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42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495680" y="1609200"/>
            <a:ext cx="3200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Trebuchet MS"/>
              </a:rPr>
              <a:t>Эта техника зародилась в Китае и заключается в использовании кусочков бумаги, металла и ткани, для украшения мисочек, свечек, рамок, глиняных ваз, керамических тарелок, вееров, папок, вёдер сумок, кашпо и других предмет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http://img0.liveinternet.ru/images/attach/c/4/80/887/80887106_large_de8.jpg"/>
          <p:cNvPicPr/>
          <p:nvPr/>
        </p:nvPicPr>
        <p:blipFill>
          <a:blip r:embed="rId2"/>
          <a:stretch/>
        </p:blipFill>
        <p:spPr>
          <a:xfrm>
            <a:off x="457200" y="15746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stat17.privet.ru/lr/092ef5fad4925ead008ccc72b9dbbed8"/>
          <p:cNvPicPr/>
          <p:nvPr/>
        </p:nvPicPr>
        <p:blipFill>
          <a:blip r:embed="rId2"/>
          <a:stretch/>
        </p:blipFill>
        <p:spPr>
          <a:xfrm>
            <a:off x="1295280" y="1981080"/>
            <a:ext cx="51055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69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724280" y="1066680"/>
            <a:ext cx="32767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3313"/>
                </a:solidFill>
                <a:latin typeface="Trebuchet MS"/>
              </a:rPr>
              <a:t>Слово фроттаж происходит от французского </a:t>
            </a:r>
            <a:r>
              <a:rPr b="0" lang="en-US" sz="2000" spc="-1" strike="noStrike">
                <a:solidFill>
                  <a:srgbClr val="773313"/>
                </a:solidFill>
                <a:latin typeface="Trebuchet MS"/>
              </a:rPr>
              <a:t>frotter</a:t>
            </a:r>
            <a:r>
              <a:rPr b="0" lang="ru-RU" sz="2000" spc="-1" strike="noStrike">
                <a:solidFill>
                  <a:srgbClr val="773313"/>
                </a:solidFill>
                <a:latin typeface="Trebuchet MS"/>
              </a:rPr>
              <a:t> – «тереть, протирать». Поднимите руку те, кто ни разу не переводил монету на бумагу, положив её под тетрадный листок и закрашивая её сверху карандашом!  Техника фроттажа и заключается в том, что под листок бумаги кладут какой-нибудь рельефный предмет и закрашивают его сверху пастел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http://www.sv-img.info/images/08/000551.jpg"/>
          <p:cNvPicPr/>
          <p:nvPr/>
        </p:nvPicPr>
        <p:blipFill>
          <a:blip r:embed="rId2"/>
          <a:stretch/>
        </p:blipFill>
        <p:spPr>
          <a:xfrm>
            <a:off x="228600" y="1447920"/>
            <a:ext cx="4489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74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lisichka.tv/lisichka/images/master-klass/16lady/karandashi_textura7.jpg"/>
          <p:cNvPicPr/>
          <p:nvPr/>
        </p:nvPicPr>
        <p:blipFill>
          <a:blip r:embed="rId2"/>
          <a:stretch/>
        </p:blipFill>
        <p:spPr>
          <a:xfrm>
            <a:off x="1219320" y="1676520"/>
            <a:ext cx="5892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8:46:28Z</dcterms:created>
  <dc:creator>Наташа</dc:creator>
  <dc:description/>
  <dc:language>en-US</dc:language>
  <cp:lastModifiedBy>nat13r@mail.ru</cp:lastModifiedBy>
  <dcterms:modified xsi:type="dcterms:W3CDTF">2025-09-12T20:20:55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